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9833-8F8B-4E36-8C60-8E8822870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32DA-7FF9-4C43-8841-4294B516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176C-1E74-469B-93A3-182425552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C2A1-D1F8-465D-A741-0D3A09AE6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8303-BE70-4037-A9AE-87D20EF0A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2286-E50C-4087-936C-1233F388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12E8-7C3B-4AEB-98E1-6A2AD565F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7EEE-2C03-487A-BB80-8D801039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7BD9-8DE1-40A1-8F8B-7B822C954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B500-DE34-47B9-9B77-6AFF2D48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C46D-F5B4-4C31-9D4E-0E262CC4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31A-5581-47AC-86A3-AD4B87263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02487-3730-4996-8D35-93EC9BE324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4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98560" y="476280"/>
            <a:ext cx="7777080" cy="600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2771640" y="620640"/>
            <a:ext cx="3313080" cy="3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02:19:52Z</dcterms:created>
  <dc:creator>anne kenneally</dc:creator>
  <dc:description/>
  <dc:language>en-US</dc:language>
  <cp:lastModifiedBy>anne kenneally</cp:lastModifiedBy>
  <dcterms:modified xsi:type="dcterms:W3CDTF">2010-03-08T02:20:34Z</dcterms:modified>
  <cp:revision>1</cp:revision>
  <dc:subject/>
  <dc:title>Slide 1</dc:title>
</cp:coreProperties>
</file>